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E6B-33C4-43BE-8C38-C780D3FA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BB5-1466-4556-9324-2FA9789D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59F-0272-4A94-B0BF-A91DD00E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05C-7D8B-4735-B601-87911E0B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A4CF-D5F6-4E28-BAD2-8819BBE8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874C-1C11-4AF6-8703-C2900448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8770-6316-471A-967D-7CBB686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C26F-728B-4512-9AE5-7FEC9EA1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6901-57DC-4482-A25D-20C65530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DBBA-13F0-41B7-8250-9943AE93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3530-FC38-4A6D-83F8-4AAA1F9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7DE-F04F-44FD-B15C-A5535B23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771B-8998-4274-8C39-8F7B28C0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0CA5-B173-4DD3-8CBF-681F7F5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A8DF-9F28-460E-84CE-F9E89565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2C66-7644-44D8-AD70-35D5B981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874E-6292-43A5-87B5-7EBB661B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4EE-E212-4777-9B90-EDA56FB3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78E-B3B5-4C18-A2FC-22D8B94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C73-42CC-4123-BEFF-AAEDD9DE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B1A-E283-4035-B88B-BED65D7A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16E-960E-4543-A3CE-BA54E6D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4EA-67F6-4045-B831-5F5711D8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DD1-52D2-4219-9715-AF19655B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A165-6F99-4BB7-8763-41B05D94A66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A4CF-9E0F-4A2E-B712-A34A0BC714E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logoindexazul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89" name="titulo%20LNM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696440" cy="538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29200" y="2209680"/>
            <a:ext cx="3809880" cy="22870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“</a:t>
            </a: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El Liceo Nav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es una verdade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escuela de señorío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Bookman Old Style"/>
              </a:rPr>
              <a:t>Monseñor Victorio Bonamí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Bookman Old Style"/>
              </a:rPr>
              <a:t>Vicario Castrense (1963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5181480"/>
            <a:ext cx="3276720" cy="5814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2000"/>
                </a:solidFill>
                <a:latin typeface="Times New Roman"/>
              </a:rPr>
              <a:t>Promoción XIV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9360" y="604692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Realizó Alfredo Ignacio River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cceso2" descr=""/>
          <p:cNvPicPr/>
          <p:nvPr/>
        </p:nvPicPr>
        <p:blipFill>
          <a:blip r:embed="rId1"/>
          <a:stretch/>
        </p:blipFill>
        <p:spPr>
          <a:xfrm>
            <a:off x="914400" y="774720"/>
            <a:ext cx="78487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cceso3" descr=""/>
          <p:cNvPicPr/>
          <p:nvPr/>
        </p:nvPicPr>
        <p:blipFill>
          <a:blip r:embed="rId1"/>
          <a:stretch/>
        </p:blipFill>
        <p:spPr>
          <a:xfrm>
            <a:off x="971640" y="635040"/>
            <a:ext cx="7791480" cy="519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32080" y="5985000"/>
            <a:ext cx="6949800" cy="3373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imes New Roman"/>
              </a:rPr>
              <a:t>Ingresamos a la Isla Santiago, cruzamos sobre el Canal de las Mandarinas y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accbase%20se%20ve%20liceo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6480" y="1355760"/>
            <a:ext cx="336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Falta el tanque de la Base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ero aparece una imagen familiar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2362320"/>
            <a:ext cx="533520" cy="6858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uina%20base1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791480" cy="5143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27160" y="2898720"/>
            <a:ext cx="2301840" cy="33858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os recuerdos 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innumerable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asados de la B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Naval, en este quincho abandonad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iosantiago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1328760"/>
            <a:ext cx="7772400" cy="5072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193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Un aporte de la XIV a la memoria colectiva</a:t>
            </a:r>
            <a:r>
              <a:rPr b="1" lang="es-ES_tradnl" sz="2000" spc="-1" strike="noStrike">
                <a:solidFill>
                  <a:srgbClr val="996633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647640"/>
            <a:ext cx="602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402000"/>
                  </a:solidFill>
                  <a:miter/>
                </a:ln>
                <a:solidFill>
                  <a:srgbClr val="402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uestro viejo Liceo, hoy</a:t>
            </a:r>
            <a:endParaRPr b="0" lang="en-US" sz="2400" spc="1" strike="noStrike">
              <a:ln w="12600">
                <a:solidFill>
                  <a:srgbClr val="402000"/>
                </a:solidFill>
                <a:miter/>
              </a:ln>
              <a:solidFill>
                <a:srgbClr val="402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320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9440" y="996840"/>
            <a:ext cx="184320" cy="3970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3840" y="1641600"/>
            <a:ext cx="7850880" cy="42087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El motivo elegido para los decorados de nuestra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fiesta del cadete, fueron los recién estrenados “Picapiedras”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Nuestra singladura mas pintoresca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el embarco a Río de Janeiro,escoltando a la regata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que ganó el “Stormvogel”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El embarco mas  emocionante, el viaje final a Ushuaia en el crucer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La Argentina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Nuestra mayor alegría deportiva, ganar el Campeonat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Interno 1963, en la regata de falúas, el Día del Cadete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minutos antes de la fiesta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2560" y="685800"/>
            <a:ext cx="6720120" cy="703800"/>
          </a:xfrm>
          <a:prstGeom prst="rect">
            <a:avLst/>
          </a:prstGeom>
          <a:solidFill>
            <a:srgbClr val="34f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La promoción XIV, ingresó al Liceo  Naval en marzo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de 1960 y egresó en diciembre de1964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imes New Roman"/>
              </a:rPr>
              <a:t>terminamos mojados, pero muy satisfechos......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1" name="falua1963a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858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46360" y="743040"/>
            <a:ext cx="4746600" cy="52056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...festejamos como locos....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3" name="festejoregata01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629400" cy="388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57880" y="5519880"/>
            <a:ext cx="6365160" cy="82548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...nuestro “uma uma qui caicoba qui qui.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resonó muy fuerte en la plaza de armas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imes New Roman"/>
              </a:rPr>
              <a:t>Enarbolamos bien alto, nuestros emblemas....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6" name="bandjoda14a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4206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5400" y="5824440"/>
            <a:ext cx="2971080" cy="459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ahoma"/>
              </a:rPr>
              <a:t>......el deportivo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nillo14a" descr=""/>
          <p:cNvPicPr/>
          <p:nvPr/>
        </p:nvPicPr>
        <p:blipFill>
          <a:blip r:embed="rId1"/>
          <a:stretch/>
        </p:blipFill>
        <p:spPr>
          <a:xfrm>
            <a:off x="990720" y="1181160"/>
            <a:ext cx="7772400" cy="4381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63680" y="514440"/>
            <a:ext cx="2701440" cy="52056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....y el formal...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3880" y="5900760"/>
            <a:ext cx="7267320" cy="45972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...con la imagen de nuestro anillo de promoción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49400" y="955800"/>
            <a:ext cx="7340400" cy="459720"/>
          </a:xfrm>
          <a:prstGeom prst="rect">
            <a:avLst/>
          </a:prstGeom>
          <a:solidFill>
            <a:srgbClr val="34f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ero las cosas han cambiado, ya no mas tren ni ferry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3480" y="2071800"/>
            <a:ext cx="7178400" cy="344664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Ahora nos manejamos con el auto y lo estacionamos en el patio cubier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Como es esta nueva historia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tomamos la autopista a La Plata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donde termina, retomamos hacia Punta Lara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en la rotonda de acceso a la misma, a la derecha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hasta que aparece esta indica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cceso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27160" y="5486400"/>
            <a:ext cx="51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Centro Naval    -     Sede Náutic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6019920"/>
            <a:ext cx="6477120" cy="5205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 la izquierda, se abre un camino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3-11-22T14:55:41Z</dcterms:modified>
  <cp:revision>81</cp:revision>
  <dc:subject/>
  <dc:title>Sin título de diapositiva</dc:title>
</cp:coreProperties>
</file>